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5BA-D5E9-4D59-8BC6-89BFF130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C1A-CDE8-47B9-A293-CBE4B4E6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F2430-538B-4088-A132-0FA341FD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7738-F802-4408-802B-C805714D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7D54F-566E-4F32-B71C-3CE8AE5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114ED-D7BE-46AF-B4A8-0B754E0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36A6-EBB2-42EA-80CA-E6FCE9D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10DD0-59BE-4D5C-BE83-40C1341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089BF-515A-4BFE-A3AC-140753C2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FB901-942B-44FA-B8B9-FAFDBA5D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7EC69-381D-4DEB-9C78-0D6CB1D6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FBD19-28DE-41A7-A4B7-1BB35AF1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B1C-A21C-400C-A0EC-AD22D692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89C4-2260-4D36-B405-A8FCDF0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89A9-5F2E-43E8-B9F0-F28C36C9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80F67-F4DA-4761-9871-E1FD655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C54A4-FE59-42FE-B05D-A9D4495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CFA3F-157D-4F8F-9644-C0F5464C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0BAFD-9FDA-44E6-ADBE-9E361EE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DA40E-C255-4371-8773-AFE9905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56DC5-6519-4CEA-9F81-AB0A950A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31D86-1B40-4988-B7D2-257B333D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01421-F39D-4192-A706-24B71F15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728-242F-4579-BF1E-120F7500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9C620-BCB8-446E-8467-44423BE1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A5FC-2C20-40B0-8500-137916B7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35C67-7DBC-4A1D-A248-00721F43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0C93-FBCD-443F-AEE2-BF8127D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72AB-94A6-4D0E-98AB-9A97A86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5826-5122-4BD9-9197-2155E845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4183-B0D8-4753-A4F5-193E5AD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7C8C-D21C-4CED-A5F9-3EC6A56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0378-560F-431C-82AE-9A0CCC6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A10A6-B768-443B-B603-A9D7D1E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CDC-0809-4D5A-9BC7-FD5ED8E9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FC43-3B3E-4EB3-A041-AF1AE26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C0F8C-5A48-40FF-8CB8-92119EC1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4A73E-B8E8-4088-938C-740D43F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9111B-ED6F-4AB7-9B14-300B8F36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18BB-12AC-455A-8789-F1F694DA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66096-6633-48FE-A5FC-7A83E35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1A23F-5F9D-4475-87EB-157E29CE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D17B9-3CA1-4127-B720-AFADE19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B95C-D496-4703-AF98-CDBD80A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321D0-9A00-44CE-9EAA-5D0B44D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614E-AED0-4187-9A60-4712693C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DA552-6282-4AE4-BDD4-D4DF416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FA8CB-516C-4A95-A2F1-F59CA6F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62BA8-8B1B-44F0-97D2-D2E41C2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CB355-9856-4602-BCEC-5D31DF84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C7BA9-F58D-4AC5-9AD1-493D8E9D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F4D6A-6293-4C03-9799-851F30D7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7C316-32E1-47C6-A7A2-EE923E00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DF351-18E5-42E4-BD5B-2890208F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C707F-840D-46F6-8DB1-156C9FC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FA771-D974-4269-B5CC-847743F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D413-C100-4D98-BDFA-29EC288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945B8-37F5-48F8-9032-E21375CB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5CDF3-766A-484C-BCDB-C53A981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C24A3-BE55-4031-897F-14912908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D3133-5D5C-457A-A935-4B6F9F51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0DEFE-5079-4952-8136-4A50FAB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3D7DF-EE66-4B24-AE1B-32D0BB14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C21CC-B4CB-4897-AE52-974ADB1C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10C19-0BB5-404F-84F8-BFDFFFEA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57C00-D2AA-4DFA-92CD-2D496114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ED228-5337-4C0A-81D3-04DA76F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B481-3057-4356-884C-37ACA8C6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02489-F54E-4A46-A4B5-4219D6D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439C5-EB0C-40BC-9694-0E053604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5CA81-95DB-4747-8FD2-74F65160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2B6B4-EAC8-404E-823C-27447AA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E70B4-4D4F-4935-9E31-17B3245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A889B-68D3-481B-849F-AA2E73F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22B73-4A72-4602-BA4A-23CECAA6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AA34F-1842-4FE8-A3AD-091D3F01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F4D7D-0BDE-4D05-8C55-B93FEF7D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19EA4-0D9A-4C14-918C-425F437F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66D-D176-4BCA-A318-5102E4E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75F03-6A59-4375-BA01-E3FB0940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DAA12-83F4-4D9B-917D-C86032E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AC731-8282-46F3-BF46-AA45D097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99198-0EB0-4052-B608-F5E5E993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EB153-B9A0-4310-9224-7150806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31BCF-8605-437C-A0CC-4EA82B7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BF418-805C-4844-BBC0-35DB5D8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BC612-EB2A-41EC-8905-9970B77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BA15D-AA68-4D30-BAF1-ABE8400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62A55-50CC-4784-810C-B2FDDF7D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682B-BA87-44CB-83CC-94E648D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099A1-AC8A-4A18-83F5-BAE23744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6BE62-F7C0-42BC-A174-A44D2C5B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5A41E-70E8-445E-A754-63FB60E4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0F427-83FD-4242-9A3A-C21BEB54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18C3E-EDE0-4165-9166-F4555264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50276-C15C-4BFA-B851-7634C3F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DC8D8-C2ED-4E8F-972C-3EAD7F2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583DB-A499-41D9-9314-C3B0878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A1AED-DB71-414F-B1AD-A4C931C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E59E2-F7F2-4662-9DED-5B724C2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3C19-5BAF-450C-8E99-42B5D45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C12DD-FBAD-42F6-954C-87DDECB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F3247-F858-4379-B3C4-1AD82000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EA06A-C7B1-4A49-8E8F-1ADB7DC1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D83A6-2334-44FA-92AA-AB945119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36F80-CFC9-47DD-B188-55953578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3DD81-52C2-414A-B140-A17FE31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5E925-CCB9-4570-A287-DC97E24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3D244-4AC3-4437-9198-4D484E03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11FD4-7D6D-4BBB-8034-E295D3A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1D382-1131-4632-B5CD-8E0AF52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470-F27F-400C-801D-53A25157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0211-9B7B-4593-ABEF-83BB349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4014B-9727-4FCC-B4F1-2B365F5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472D6-0C2C-442A-A4F5-4FAFE8C4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89B58-93E4-4085-BBBA-C0963938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04B05-EEED-4094-A1CE-F34FA0BE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99978-3943-4C5D-A18F-B30A69A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46B19-10FF-4380-AF8D-26BB7951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1CEAC-85D9-4694-AB60-8609B733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20A86-A4AA-49D1-B288-95B4996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6AA00-6195-43ED-9DF3-511B79D1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06A31-3914-4FCB-9558-F1074392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DFD3-D4DA-45D8-9196-78F8F5C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E6732-83C4-47E4-921E-DA24471C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86593-963A-4A76-B108-85692A0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3CE04-66A2-41FE-976E-D6C015A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3BA3C-9104-4E43-8134-1E44875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B7FAB-5EBC-4106-AB00-AB795809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C904F-BE92-4791-BE78-BF5391B6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B148B-5C56-4405-9DFD-08A9CB30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83191-9158-44F4-87C7-852F80E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15DAD-E569-494A-B1C7-5A9ED300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46B6E-CC78-4F01-9049-DD19356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24B9-D5C7-43DC-8DB7-401E3E23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57627-361B-4638-824C-22853DF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92E05-942B-47B0-A4C8-47B7E729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15989-2427-4B13-9F5E-08FF8E7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F19EB-3196-4B6F-A9C2-020D5CC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EA3B2-3E93-4C0A-8670-32F80F4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B4E52-695C-4512-A9A6-9B27B68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2FBBA-D85B-4CEA-8362-E41F96D3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D21DDD-22C2-43A5-BDB9-F95F099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D5AF9-31DE-47FE-A6A8-088D9D52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40424-6605-48E6-A569-E9CCB0D5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EE73-6FBA-45CF-8835-1AF09A16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31E8B-E55E-447C-BBFE-6FDA2EE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B8539-9A34-4C16-853E-786DCF2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649CB-C399-4AAB-A23C-9D37E28A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73F96-93B6-4F69-A60A-EE175C0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92AAA-8AF3-4DBF-8FCC-4EEE717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E7FF9-5A6A-4311-80B2-2BA10B0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0CE3F-5774-415D-B89E-847D57A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C2740-29D0-49E7-8258-7390029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0E50C-77A3-4A53-90DB-DDC8521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3BC42-E1F2-4590-9375-A28FDEF5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F94D-ECC7-4E0E-A9E1-F0ECED9E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937BE-5A04-4721-88DD-BAE42565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409F3-D6E6-4710-90C8-6A9CBFF9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10E49-E9A1-4EE8-B8E6-0574DC4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4E144-C3CB-42C4-AF80-2189E6F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0A56E-1702-45A4-8B3C-727C6BF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A062F-1190-49DB-BA32-D9501F3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9ED707-4222-4469-95E8-85DD1D34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08DCE-F642-4F59-87F2-1149141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32AD8-6575-4DC9-AB79-E279CE8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5F244-2656-4338-BAE7-AADEC41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3C8A-5376-4290-BDE2-40CB53E8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4907E-2ED9-4B8C-9BDB-5E91D37F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43D4B-66FC-4510-BE0C-65625549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06741C-3EC3-4B79-B4B7-8CBBB056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6D815-B88C-41F6-B99B-A6CDBAF0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49BD1-5B04-4555-BE31-24E06C3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593606-0831-4951-812E-FE689AD0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02CF04-F623-42C7-B5DB-0D1ABF9E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8C729-07A6-4D05-A691-B40E6B28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2A9691-C477-4F22-8168-9E42AA6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C4EE9-4B29-4EE6-9C11-8FCDE15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55EC-FB2F-45FE-BF23-BF8DCB8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31A77-AF24-4044-A482-B45C2E7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AD8F0-1337-45DB-811B-CD07291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A65CC-B12E-4A04-8D21-DDC6945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D7AE78-908C-4FB8-946B-05294B2E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F9BFD-26E1-4143-A793-01FFC941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1D458-152A-4C54-B982-D7018909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F2CCD5-BDF7-4ACB-BF9C-7B26217A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B9EAC-5D5F-4AB6-93A4-F29BA5A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52090-6A36-4CF9-880F-14F4498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2ACC3D-2993-45B2-8C34-24CFB502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3393-00B0-4681-B4A5-4C9F80F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CA1BE-FBD1-48F2-AEC7-B557396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B4F63B-264B-49B4-AB88-42FA0928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67C27-BF9B-404D-8925-8AD2992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0F123-77C7-492C-9E84-020A5B1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AC33C9-37C0-493F-B8B5-DFF2BBA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F98E0-203E-4C73-AB81-484568ED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133FB7-8846-40B4-81BE-8E4DC8F7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AFBA-A809-44BF-8A56-D8EE2F3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49FF-C69C-41BD-8826-5751BA5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F3F-17B8-4E57-BFFB-78CA6B15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D20C-4F82-41DF-988D-74972BA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D307-B698-48DE-B41A-874A189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CF20-AC73-4D2E-B6C4-8579A1E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C82A-1896-4501-94CF-E2B2B32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B9E7-37B8-4FE3-8627-42FE6B0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D879-7A57-41A0-9B38-7EEB4081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78F4-F3F2-4237-9B3D-4EB57202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C9B8-FCF8-4471-BBD1-D4452DDF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EDDB-2F65-4A58-B644-2CF4491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179F-AC0B-450E-B952-D10A0D5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445-9502-48BD-A69F-AC449CB8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B131-EFDB-465E-97C7-D8428F6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3A73-E26C-49AC-8EE9-9B66875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3CF9-367E-477F-BE5D-E559FA5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4F05-5E24-42E4-9D29-B9586CF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3D51-3CEA-4D64-996C-79F7F6B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12E4-B931-4918-89E4-FBC755B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344B-610B-44B9-91D2-7F7A9B5D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9A24-2AA6-44AE-AC9D-8738877A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372F-C68A-41C4-B020-6DBD1E8E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3896-FDD2-48B5-A650-3508EFB6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B27-C00B-46CF-962F-F40B2782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CB390-1694-4BA7-A622-D43D089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6AFB-7861-4B08-825D-608059F0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4288-F35E-4689-9770-1C2B464A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93C9-808C-401C-854E-575F014C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E86E-9936-4D06-960C-86E9FE9C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FC53-30FD-4A57-8056-C146651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06A1-5F05-4807-A766-02CE011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A58A-57E7-41B1-B306-7449BE7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C4A1-4ABC-40F5-8E90-E6460707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3F0CA-BF98-4389-B07A-97BB1AAF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4F8-F0E8-455A-8E7A-8BEB1C0A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7075A-3591-4F5B-A862-7C9E9196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68BB-12ED-4D1B-99ED-CE493206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7D32-387A-4B2D-91F6-183A5FB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54FF5-F9D6-46F4-A30D-B5440428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12D5-6573-427C-A123-A4A5737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67E3-3519-4105-B5AA-672E911A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BF0F-AE61-40E2-A4EA-FEAFFD3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8D9E-A727-486F-8F3D-EC84FDD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4A9EF-C09A-4C4E-9F7D-F1EB313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274C-4D1E-4FDC-A5AA-86538F5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2D-7F60-4FA8-8B7E-E5687CE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A236A-3F45-4F87-A064-4F7A257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2547-B61C-4791-91B3-DB7F993D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2B54-3368-42A3-94B5-2EF19811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413F-0B8B-4BAC-9E30-EB6CBF1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FA93-C15D-4FB4-A1B0-8E079C5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1F734-166F-45E0-8284-73511F2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FD75-A086-4465-B054-BC35202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ACB4-0628-4A28-9761-9FBA6399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7665-EE61-4133-B7C9-28E76A6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E404-C763-4334-883C-CDDB2A8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D31-22DA-4277-B904-32F6106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09D51-4CD0-4592-ABDB-8829285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5A5B0-148B-4C43-ACC6-CBE84B8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F8231-7ADC-4781-94E3-67A626E2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C840-D456-494A-B1F5-AFBFBD80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3DEA-857C-48B1-B904-5A121105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1109-B7F7-4A7C-AA48-07DD8EF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2EDF4-CB9D-4BDF-891D-F1159E2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94E7-A1DE-4FAD-8A57-B0E5CD9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2A1BE-8F97-4D09-94C3-5003FC7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45DC-4742-4303-8F3C-6E41659E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DFF-2C4C-4847-82E4-FD544BD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74460-6B05-4375-B97D-57147477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3EAF-B3DA-4753-9A21-5CA1D9A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7EB8B-0D46-477D-AF70-34500F5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C2073-40D6-44F4-9983-764AB145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C3D3-0C3B-485A-B468-459372A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7F3B-2FB0-48B1-AAF7-B5314740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46D3-0AB7-4F46-BD42-667FF59B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19790-AF41-4C4F-8E56-998C8417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1AEE4-1D44-45BF-B944-094C1B9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7BE3-BAB2-4AD0-B9A8-3FA5D10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9B8-54BB-46B7-A481-655B79EAE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5EC-CA6A-4581-9D2E-459AA36BD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CAC-8E11-45C6-A024-1950B0970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433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A38E-B592-45EF-81FB-8F280BB2A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693-8465-4031-8622-69B72698B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A33F-BA08-416C-A10F-8AB252F4D7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811-2BD6-44B8-A908-41038D63C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D0B1-F309-488D-8859-CD5146C06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5EA-EADF-4BFE-B628-779AE7926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BCBA-4455-4D8A-BEDC-52AA3E3773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F78-61A5-4DF5-BFCB-E96D99826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CD6-8A13-4561-8ED4-38D0D3822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238-CEDE-464A-B727-7D95EF0B9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E572-5CD2-4CA6-9CA4-43DB7645C7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128-0D7D-42AB-91B4-8E6599984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7AEA-97B5-48D3-B616-91613D995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8A5-E004-4280-B5A2-944C7732E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373-3587-49BC-830E-0A996EABF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5D9-F6EA-4049-B928-72F2377C8E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A9C-FF7A-4975-930D-AD6B90EB7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18D-1E3F-4BAE-9B43-F6F548346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B5EA-4EC8-4FF8-9E19-A60FDDB9E0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68C6-C0DF-4B0D-AFB9-784D9FF11B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F88-88DD-403C-A0C6-54883C7E7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0C4-8F2B-4BEA-92D7-EBFBB2925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B79-623D-40CB-A116-B9FED7D4F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43EE-11AF-400C-82BB-13790E067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E772-6418-48DF-8BE5-2D72472A9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CE74-74F6-4763-B226-1C5CD876B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BF4-A340-40C7-B067-2D8C603DF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A84A-DEEF-4E74-8ACC-192D6503A9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950-16AD-4E77-BB92-EBECE31C8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71D0-3540-4CD4-9009-A1B497FDA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3D0A-299E-44D3-9B8E-BEF03C5063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48C4-BE43-4685-9087-32D93A043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20BC-E236-4568-A001-DAD05A15C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4C47-1180-4C0F-B967-E7BE89B20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B3C2-F6A8-4C85-B6B5-3D5738FEF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1F55-1DCD-4DA8-BAE4-EAE4256EC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6513-54E2-4625-9623-ADE968C21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163-BDB2-4AF9-821D-153BA51C62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85A1-767F-4CEE-A4AD-C3BF51543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671480" y="1698480"/>
            <a:ext cx="5801040" cy="138132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2" descr=""/>
          <p:cNvPicPr/>
          <p:nvPr/>
        </p:nvPicPr>
        <p:blipFill>
          <a:blip r:embed="rId2"/>
          <a:stretch/>
        </p:blipFill>
        <p:spPr>
          <a:xfrm>
            <a:off x="317520" y="3637080"/>
            <a:ext cx="82216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1"/>
          <a:stretch/>
        </p:blipFill>
        <p:spPr>
          <a:xfrm>
            <a:off x="547560" y="144360"/>
            <a:ext cx="8242560" cy="65674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1187280" y="4710240"/>
            <a:ext cx="38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1289160" y="544500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1116000" y="61801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04840" y="1023840"/>
            <a:ext cx="8734320" cy="4810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399564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2556000" y="52293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95440" y="1033560"/>
            <a:ext cx="7953120" cy="4790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6948360" y="12114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372360" y="242100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773600" y="21337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2138400" y="242100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508720" y="328464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067280" y="3933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987640" y="45813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1908000" y="520056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42960" y="1238400"/>
            <a:ext cx="7858080" cy="4381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2519280" cy="2089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2916360" y="213372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519280" cy="2881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58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700200" y="1390680"/>
            <a:ext cx="7743600" cy="4076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2527200" y="1700280"/>
            <a:ext cx="892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5465880" y="2176560"/>
            <a:ext cx="2663640" cy="3124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6805440" y="1671480"/>
            <a:ext cx="158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14240" y="1442880"/>
            <a:ext cx="7715520" cy="3972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2627280" y="15717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3024360" cy="3097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6946920" y="15717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14280" y="1562040"/>
            <a:ext cx="8515440" cy="3733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2987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14036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524844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443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553160" y="450864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262080" y="1333440"/>
            <a:ext cx="8619840" cy="4191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042920" y="461016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47760" y="1166760"/>
            <a:ext cx="8448480" cy="45244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042920" y="43797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116000" y="5157720"/>
            <a:ext cx="590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3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